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7929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B709-758F-4005-8EEA-E27C2132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DC18-DC36-467F-9C0B-007138BB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8A123-F812-438B-9085-5FF14AFE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1B02F-C048-43D7-9180-277020E3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8AD4B-0A79-4C00-B757-737E3CD2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8EFB5-991F-4D7A-AA82-890EC5F9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98356-6F12-4654-BC97-2DE71551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9C8A4-FC64-45A9-BDC9-FD4A2BE7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39E0B-75BA-42BC-BA01-41673719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DB924-0F81-4B14-BAEC-DD734141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A0E0F-CB76-430A-9607-76894EF5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5422-3E2C-45EE-A504-AC8C6C1F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2E0D-A04A-444E-AE52-38EA2EE5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99EA-D669-4894-9CB6-7B94F3D9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41B3-1B93-45B3-8D6B-6760A907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F80B-49D2-4296-9F86-D1C3BA16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C151-0E5B-444F-B33A-4F099751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1B95-9FB5-4BE4-A05D-42F4FCF8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29EE-9349-49DA-ABDE-2DA64515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E7DA-436D-4FF8-A20F-8920628F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CEC1-7298-4EDA-91BD-F71BBDD3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07EA-5394-4635-A4F9-84B130D3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AF73-5669-49F1-A226-C235E3BA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6F82-2686-4FCE-8A8C-546C7B6D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CADF-5E73-4D9C-9134-8485AB41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9F70-63CB-474A-912C-D4E2B635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6ECA9-068D-4DE0-949A-C457A237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18C3D-6785-47A0-AF35-4FD716C3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F0BFF-0FB1-4589-B459-357EEC60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D4AEC-78EC-400F-B10F-51900266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92D78-1A3C-4E78-B4A7-5A23E300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B063-5D24-4AC3-991B-9608BFA3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B6ADC-21DF-4B4A-8DAA-BE1790CC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E25BD-526C-4A0C-9F21-D1C9502B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AE9CA-0243-4259-A555-B987D978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CF398-DADE-4EB5-821A-5B6CB2F2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C2206-151E-45AE-9799-36CC0B48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3D169-A203-4A15-8580-774E715B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53B85-1BB1-4122-A9D6-FB545CE4F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97173-EBA4-4CB4-9F92-8A571FFC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D546D-D232-48ED-9522-30D147CA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061F4-4391-4412-8ABF-DB6EF875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9CF3-DE0E-46A8-816D-C4943DDD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86876-2EDF-489C-B3C8-59DFA5B4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733D4-75A3-48BD-954C-8BA65AD0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16D87-257F-4672-AC7A-5BE102E1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83B7E-6E4B-4216-82B8-39D7E7B1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91970-AB80-44C3-B3DB-B8409EEB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2F19B-2C1D-4077-9861-77BE7E1A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85932-534F-4083-8779-576CC9F1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CD6F4-8A00-4EA4-B7C4-967543B8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4E300-FDEE-432C-B17A-90D87DE7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8B71B-C5BF-4EF6-AEB5-158B1F60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3160-67A3-4FAC-A636-C90DA6D9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DF01D-D424-4905-B154-8A7F5864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2641B-1EE1-4712-8A85-C017B1C5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F133F-6085-48A6-AD73-FFE2105D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8971D-0393-4368-9677-141D0100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E3034-EFBC-48B5-957D-1CB462D2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CE883-4013-447D-A058-F136D4FA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0E1DF-4468-4552-A854-699FF992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217C5-A5F7-4472-810A-36592452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A2B6B-6B97-4CFA-A3CD-B321FEB0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7208B-1426-4EBA-8A47-49F54FE8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1F9F-43B6-444F-A7E1-E5F30234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EEF7B-9DA5-4D1E-9FF2-8E10AE4F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31AFA-380A-4810-B5BB-0C1A6A7E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16C7F-FD61-440D-B4F3-489DD0A9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3ACE9-AA2B-4042-A70A-8C285C3C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E9FB1-33CC-4C86-890F-594648E1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7EDC9-AD41-4D52-9484-2C547091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0D8F8-3BDA-4922-90D7-549B1723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04C0E-3F31-4AFA-875D-824CBF01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B1060-FB94-4D95-B439-FAB4E32D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B5B19-D36D-48A6-9B21-2773FF36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D96D-42F6-4871-8F4E-0AA9BE0E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E8A62-3B5A-420C-AD90-13A44CA3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6CCDD-59CD-4C78-93FC-7E9EBD09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2E214-5E43-44A3-B7C3-709F5476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28CD7-484A-40E8-825C-A4869CEF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B0FB5-DB1B-4094-83BD-01A4C3CB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35625-78E0-4BC5-A1AA-63B31F7D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0A99B-2C5B-46CF-816C-93C14903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DE824-5EA6-4107-9683-34AE80F7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D8823-5F95-41B9-A97D-E81D4B48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5754C-5B6D-4A18-82F5-700B5393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7699-421C-4556-A88A-EA08880B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C915D-6AE1-404C-83F1-4B6C17CC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7B1FD-4F23-49F1-8E70-2BD0E7D9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B1485-AD81-42AD-BC7F-A8E1752B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C8E8D-6922-4502-822E-70B91BB1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BDDFE-E789-4391-8CF8-D63A7DEE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CDA1E-4EC7-4A84-8BD2-A4235A18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2AD45-09CD-4A8F-B8E3-37731367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903CD-1B9D-4ACA-845F-0DA1DFBF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C0B1B-F3B1-425D-9FDA-76167357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85A8D-6549-4826-8CBF-85E18467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A27B-CC50-4B86-9651-9716144A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24862-810C-4D65-8D2A-A60FD80A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E6277-5588-4524-AF98-14C21202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B631E-6D2A-4FEF-B10E-B48F0940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CB929-62CB-481A-99A9-32AECFA8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39392-6DBF-4B1A-B71B-8E9EF23D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9BD9C-3BC2-404D-8722-E9C9ED1F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EED42-97B6-4F8B-906E-95D2175F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1DB7F-4FD9-4134-A3DB-6C5A5ABF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42481-B1E0-4BDF-8D15-5E922E1E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B516D-8607-4C4A-8177-CD8F9C03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C34F-A341-4488-AB61-0CD63187252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CF4A-948C-447F-AF81-D29E40787D10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E2C2-8A36-435B-A902-134559463D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CC3B-BA30-4494-B8D5-8BE9DB64F5F0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5E05-A0E3-4814-B2F5-B007DA2FDF0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F55E-757A-4FFD-A805-A65D43C4EDC2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ABE0-6A86-48AD-9D13-5890BB8BB69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7E19-F3D0-49FE-A1BD-6D493B6A15EB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69D0-25B9-45C4-A1E3-3FF7A84BE1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7511-EA25-4AF1-9CF0-B925038EEF5C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95C7-72EF-4400-BE6E-36E10793B7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6CD0-0B6A-46DF-AED5-7F597C635EEC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69F5-1DBC-40AF-8B54-5C770CB34D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3F4A-0620-4EF7-B9E3-90ECB8C6CA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87FC-D16F-4EB9-B0BC-FB9132ABDF5E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73D4-C455-4D68-8575-724D327891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0"/>
          <p:cNvSpPr/>
          <p:nvPr/>
        </p:nvSpPr>
        <p:spPr>
          <a:xfrm>
            <a:off x="7631280" y="476280"/>
            <a:ext cx="151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5"/>
          <p:cNvSpPr/>
          <p:nvPr/>
        </p:nvSpPr>
        <p:spPr>
          <a:xfrm>
            <a:off x="8244000" y="54936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Прямоугольник 4"/>
          <p:cNvSpPr/>
          <p:nvPr/>
        </p:nvSpPr>
        <p:spPr>
          <a:xfrm>
            <a:off x="539640" y="1849680"/>
            <a:ext cx="8425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 финансов осуществляет операционно-кассовое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 149 организ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Прямоугольник 8"/>
          <p:cNvSpPr/>
          <p:nvPr/>
        </p:nvSpPr>
        <p:spPr>
          <a:xfrm>
            <a:off x="539640" y="3060000"/>
            <a:ext cx="1871640" cy="52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 органы местного самоуправл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Прямоугольник 10"/>
          <p:cNvSpPr/>
          <p:nvPr/>
        </p:nvSpPr>
        <p:spPr>
          <a:xfrm>
            <a:off x="2556000" y="3039480"/>
            <a:ext cx="1224000" cy="52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- казенные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Прямоугольник 11"/>
          <p:cNvSpPr/>
          <p:nvPr/>
        </p:nvSpPr>
        <p:spPr>
          <a:xfrm>
            <a:off x="3924360" y="3028320"/>
            <a:ext cx="1511280" cy="52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- бюджетные учреж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Прямоугольник 12"/>
          <p:cNvSpPr/>
          <p:nvPr/>
        </p:nvSpPr>
        <p:spPr>
          <a:xfrm>
            <a:off x="5580000" y="2998080"/>
            <a:ext cx="1584360" cy="52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7- автономные учреж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6" name="Прямая со стрелкой 7"/>
          <p:cNvCxnSpPr/>
          <p:nvPr/>
        </p:nvCxnSpPr>
        <p:spPr>
          <a:xfrm>
            <a:off x="1331640" y="2637000"/>
            <a:ext cx="1080" cy="2880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7" name="Прямая со стрелкой 15"/>
          <p:cNvCxnSpPr/>
          <p:nvPr/>
        </p:nvCxnSpPr>
        <p:spPr>
          <a:xfrm>
            <a:off x="3203280" y="2637000"/>
            <a:ext cx="1080" cy="2880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8" name="Прямая со стрелкой 16"/>
          <p:cNvCxnSpPr/>
          <p:nvPr/>
        </p:nvCxnSpPr>
        <p:spPr>
          <a:xfrm>
            <a:off x="4642920" y="2637000"/>
            <a:ext cx="1080" cy="2880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9" name="Прямая со стрелкой 17"/>
          <p:cNvCxnSpPr/>
          <p:nvPr/>
        </p:nvCxnSpPr>
        <p:spPr>
          <a:xfrm>
            <a:off x="6372000" y="2637000"/>
            <a:ext cx="1080" cy="2880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0" name="TextBox 9"/>
          <p:cNvSpPr/>
          <p:nvPr/>
        </p:nvSpPr>
        <p:spPr>
          <a:xfrm>
            <a:off x="611280" y="765000"/>
            <a:ext cx="79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тоги работы Департамента финансов за 2019 го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539640" y="4068720"/>
            <a:ext cx="8425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 295 лицевых счетов, по которым отражаются  операц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редствами получателей бюджетных средст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ми во временном распоряжен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ми бюджетных и автономных учрежде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ыми средствами, выделенным бюджетным и автономным учрежде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м предприятия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ашивка 20"/>
          <p:cNvSpPr/>
          <p:nvPr/>
        </p:nvSpPr>
        <p:spPr>
          <a:xfrm>
            <a:off x="395280" y="4581360"/>
            <a:ext cx="144360" cy="142920"/>
          </a:xfrm>
          <a:custGeom>
            <a:avLst/>
            <a:gdLst>
              <a:gd name="textAreaLeft" fmla="*/ 0 w 144360"/>
              <a:gd name="textAreaRight" fmla="*/ 144360 w 1443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919" y="0"/>
                </a:lnTo>
                <a:lnTo>
                  <a:pt x="21600" y="10800"/>
                </a:lnTo>
                <a:lnTo>
                  <a:pt x="10919" y="21600"/>
                </a:lnTo>
                <a:lnTo>
                  <a:pt x="0" y="21600"/>
                </a:lnTo>
                <a:lnTo>
                  <a:pt x="10681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ашивка 24"/>
          <p:cNvSpPr/>
          <p:nvPr/>
        </p:nvSpPr>
        <p:spPr>
          <a:xfrm>
            <a:off x="395280" y="4869000"/>
            <a:ext cx="144360" cy="14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ашивка 25"/>
          <p:cNvSpPr/>
          <p:nvPr/>
        </p:nvSpPr>
        <p:spPr>
          <a:xfrm>
            <a:off x="395280" y="5157720"/>
            <a:ext cx="144360" cy="142920"/>
          </a:xfrm>
          <a:custGeom>
            <a:avLst/>
            <a:gdLst>
              <a:gd name="textAreaLeft" fmla="*/ 0 w 144360"/>
              <a:gd name="textAreaRight" fmla="*/ 144360 w 1443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919" y="0"/>
                </a:lnTo>
                <a:lnTo>
                  <a:pt x="21600" y="10800"/>
                </a:lnTo>
                <a:lnTo>
                  <a:pt x="10919" y="21600"/>
                </a:lnTo>
                <a:lnTo>
                  <a:pt x="0" y="21600"/>
                </a:lnTo>
                <a:lnTo>
                  <a:pt x="10681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Нашивка 26"/>
          <p:cNvSpPr/>
          <p:nvPr/>
        </p:nvSpPr>
        <p:spPr>
          <a:xfrm>
            <a:off x="395280" y="5445000"/>
            <a:ext cx="144360" cy="144720"/>
          </a:xfrm>
          <a:custGeom>
            <a:avLst/>
            <a:gdLst>
              <a:gd name="textAreaLeft" fmla="*/ 0 w 144360"/>
              <a:gd name="textAreaRight" fmla="*/ 144360 w 14436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Прямоугольник 18"/>
          <p:cNvSpPr/>
          <p:nvPr/>
        </p:nvSpPr>
        <p:spPr>
          <a:xfrm>
            <a:off x="7308720" y="2999520"/>
            <a:ext cx="1656000" cy="7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муниципальн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тарн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рият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7" name="Прямая со стрелкой 19"/>
          <p:cNvCxnSpPr/>
          <p:nvPr/>
        </p:nvCxnSpPr>
        <p:spPr>
          <a:xfrm>
            <a:off x="8100720" y="2637000"/>
            <a:ext cx="1080" cy="2880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20"/>
          <p:cNvSpPr/>
          <p:nvPr/>
        </p:nvSpPr>
        <p:spPr>
          <a:xfrm>
            <a:off x="7631280" y="476280"/>
            <a:ext cx="151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5"/>
          <p:cNvSpPr/>
          <p:nvPr/>
        </p:nvSpPr>
        <p:spPr>
          <a:xfrm>
            <a:off x="8244000" y="54936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9"/>
          <p:cNvSpPr/>
          <p:nvPr/>
        </p:nvSpPr>
        <p:spPr>
          <a:xfrm>
            <a:off x="663480" y="52236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иболее значимые мероприятия в деятельност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партамента в 2019 го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13"/>
          <p:cNvSpPr/>
          <p:nvPr/>
        </p:nvSpPr>
        <p:spPr>
          <a:xfrm>
            <a:off x="755640" y="1293840"/>
            <a:ext cx="525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года проводилось 12 уточнений бюдже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ашивка 1"/>
          <p:cNvSpPr/>
          <p:nvPr/>
        </p:nvSpPr>
        <p:spPr>
          <a:xfrm>
            <a:off x="431640" y="1386000"/>
            <a:ext cx="144720" cy="215640"/>
          </a:xfrm>
          <a:custGeom>
            <a:avLst/>
            <a:gdLst>
              <a:gd name="textAreaLeft" fmla="*/ 0 w 144720"/>
              <a:gd name="textAreaRight" fmla="*/ 145080 w 1447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18"/>
          <p:cNvSpPr/>
          <p:nvPr/>
        </p:nvSpPr>
        <p:spPr>
          <a:xfrm>
            <a:off x="747720" y="1682640"/>
            <a:ext cx="81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рте месяце прошли публичные слушания по проекту отчета об исполнении бюджета городского округа город Рыбинск за 2018 год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ашивка 19"/>
          <p:cNvSpPr/>
          <p:nvPr/>
        </p:nvSpPr>
        <p:spPr>
          <a:xfrm>
            <a:off x="431640" y="1835280"/>
            <a:ext cx="144720" cy="217440"/>
          </a:xfrm>
          <a:custGeom>
            <a:avLst/>
            <a:gdLst>
              <a:gd name="textAreaLeft" fmla="*/ 0 w 144720"/>
              <a:gd name="textAreaRight" fmla="*/ 145080 w 14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20"/>
          <p:cNvSpPr/>
          <p:nvPr/>
        </p:nvSpPr>
        <p:spPr>
          <a:xfrm>
            <a:off x="735120" y="2208240"/>
            <a:ext cx="820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ябре  состоялись публичные слушания по проекту Решения Муниципального Совета городского округа город Рыбинск «О бюджете городского округа город Рыбинск  на  2020 год  и  на плановый период  2021 и 2022 годов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ашивка 21"/>
          <p:cNvSpPr/>
          <p:nvPr/>
        </p:nvSpPr>
        <p:spPr>
          <a:xfrm>
            <a:off x="441360" y="2349360"/>
            <a:ext cx="144360" cy="216000"/>
          </a:xfrm>
          <a:custGeom>
            <a:avLst/>
            <a:gdLst>
              <a:gd name="textAreaLeft" fmla="*/ 0 w 144360"/>
              <a:gd name="textAreaRight" fmla="*/ 144360 w 144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ашивка 22"/>
          <p:cNvSpPr/>
          <p:nvPr/>
        </p:nvSpPr>
        <p:spPr>
          <a:xfrm>
            <a:off x="441360" y="3068640"/>
            <a:ext cx="144360" cy="216000"/>
          </a:xfrm>
          <a:custGeom>
            <a:avLst/>
            <a:gdLst>
              <a:gd name="textAreaLeft" fmla="*/ 0 w 144360"/>
              <a:gd name="textAreaRight" fmla="*/ 144360 w 144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23"/>
          <p:cNvSpPr/>
          <p:nvPr/>
        </p:nvSpPr>
        <p:spPr>
          <a:xfrm>
            <a:off x="720720" y="2959200"/>
            <a:ext cx="799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месяце  Муниципальным Советом принят бюджет. Решение Муниципального Совета городского округа город Рыбинск от 12.12.2019  №  94 «О бюджете городского округа город Рыбинск  на  2020 год  и  на плановый период  2021 и 2022 годов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Прямоугольник 3"/>
          <p:cNvSpPr/>
          <p:nvPr/>
        </p:nvSpPr>
        <p:spPr>
          <a:xfrm>
            <a:off x="693720" y="3699000"/>
            <a:ext cx="843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о бюджетных кредитов 160 млн. руб., которые направили на погашение ранее полученных кредитов. Погашено кредитов за счет собственных средств 12,5 млн.руб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ашивка 24"/>
          <p:cNvSpPr/>
          <p:nvPr/>
        </p:nvSpPr>
        <p:spPr>
          <a:xfrm>
            <a:off x="431640" y="3849840"/>
            <a:ext cx="144720" cy="217440"/>
          </a:xfrm>
          <a:custGeom>
            <a:avLst/>
            <a:gdLst>
              <a:gd name="textAreaLeft" fmla="*/ 0 w 144720"/>
              <a:gd name="textAreaRight" fmla="*/ 145080 w 14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ашивка 15"/>
          <p:cNvSpPr/>
          <p:nvPr/>
        </p:nvSpPr>
        <p:spPr>
          <a:xfrm>
            <a:off x="442800" y="4471920"/>
            <a:ext cx="144720" cy="217440"/>
          </a:xfrm>
          <a:custGeom>
            <a:avLst/>
            <a:gdLst>
              <a:gd name="textAreaLeft" fmla="*/ 0 w 144720"/>
              <a:gd name="textAreaRight" fmla="*/ 145080 w 14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8"/>
          <p:cNvSpPr/>
          <p:nvPr/>
        </p:nvSpPr>
        <p:spPr>
          <a:xfrm>
            <a:off x="720720" y="496728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о  12 заседаний межведомственной комиссии. Погашена задолженность по налогам всего  52 млн. руб., в том числе в бюджет города 20 млн. руб.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18"/>
          <p:cNvSpPr/>
          <p:nvPr/>
        </p:nvSpPr>
        <p:spPr>
          <a:xfrm>
            <a:off x="730080" y="4344840"/>
            <a:ext cx="835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а работа по замене существующих коммерческих кредитов с процентной ставкой 8% и 8,5%  на более низкую 7,2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ашивка 26"/>
          <p:cNvSpPr/>
          <p:nvPr/>
        </p:nvSpPr>
        <p:spPr>
          <a:xfrm>
            <a:off x="431640" y="5121360"/>
            <a:ext cx="144720" cy="215640"/>
          </a:xfrm>
          <a:custGeom>
            <a:avLst/>
            <a:gdLst>
              <a:gd name="textAreaLeft" fmla="*/ 0 w 144720"/>
              <a:gd name="textAreaRight" fmla="*/ 145080 w 1447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395280" y="1268280"/>
          <a:ext cx="8317080" cy="5132520"/>
        </p:xfrm>
        <a:graphic>
          <a:graphicData uri="http://schemas.openxmlformats.org/drawingml/2006/table">
            <a:tbl>
              <a:tblPr/>
              <a:tblGrid>
                <a:gridCol w="2808360"/>
                <a:gridCol w="1224000"/>
                <a:gridCol w="1224000"/>
                <a:gridCol w="1225440"/>
                <a:gridCol w="863640"/>
                <a:gridCol w="971640"/>
              </a:tblGrid>
              <a:tr h="94428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 2018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мое исполнение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ис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 2020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82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17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01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03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и неналоговые доходы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1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7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68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9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5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2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2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3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логовые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0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39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32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4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93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5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3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3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551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за счет местн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99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2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86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95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за счет областн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94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3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6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07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ИЦИТ ИЛИ ПРЕВЫШ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ОВ НАД РАСХОД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10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  <p:sp>
        <p:nvSpPr>
          <p:cNvPr id="406" name="Text Box 120"/>
          <p:cNvSpPr/>
          <p:nvPr/>
        </p:nvSpPr>
        <p:spPr>
          <a:xfrm>
            <a:off x="7631280" y="476280"/>
            <a:ext cx="151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1"/>
          <p:cNvSpPr/>
          <p:nvPr/>
        </p:nvSpPr>
        <p:spPr>
          <a:xfrm>
            <a:off x="0" y="549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жидаемое исполнение бюджета городского округа город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ыбинск за 2019 год (млн. руб.) по состоянию на 20.12.2019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Box 5"/>
          <p:cNvSpPr/>
          <p:nvPr/>
        </p:nvSpPr>
        <p:spPr>
          <a:xfrm>
            <a:off x="8244000" y="54936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20"/>
          <p:cNvSpPr/>
          <p:nvPr/>
        </p:nvSpPr>
        <p:spPr>
          <a:xfrm>
            <a:off x="7631280" y="476280"/>
            <a:ext cx="151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5"/>
          <p:cNvSpPr/>
          <p:nvPr/>
        </p:nvSpPr>
        <p:spPr>
          <a:xfrm>
            <a:off x="8244000" y="54936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9"/>
          <p:cNvSpPr/>
          <p:nvPr/>
        </p:nvSpPr>
        <p:spPr>
          <a:xfrm>
            <a:off x="534960" y="75096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ми проблемами при исполнении бюджета за 2019 го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20"/>
          <p:cNvSpPr/>
          <p:nvPr/>
        </p:nvSpPr>
        <p:spPr>
          <a:xfrm>
            <a:off x="861840" y="2611440"/>
            <a:ext cx="80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ГРБС сроков подачи заявок на уточнение бюдже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ашивка 21"/>
          <p:cNvSpPr/>
          <p:nvPr/>
        </p:nvSpPr>
        <p:spPr>
          <a:xfrm>
            <a:off x="466560" y="2708280"/>
            <a:ext cx="160560" cy="216000"/>
          </a:xfrm>
          <a:custGeom>
            <a:avLst/>
            <a:gdLst>
              <a:gd name="textAreaLeft" fmla="*/ 0 w 160560"/>
              <a:gd name="textAreaRight" fmla="*/ 160920 w 1605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ашивка 22"/>
          <p:cNvSpPr/>
          <p:nvPr/>
        </p:nvSpPr>
        <p:spPr>
          <a:xfrm>
            <a:off x="468360" y="3270240"/>
            <a:ext cx="144360" cy="216000"/>
          </a:xfrm>
          <a:custGeom>
            <a:avLst/>
            <a:gdLst>
              <a:gd name="textAreaLeft" fmla="*/ 0 w 144360"/>
              <a:gd name="textAreaRight" fmla="*/ 144360 w 144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23"/>
          <p:cNvSpPr/>
          <p:nvPr/>
        </p:nvSpPr>
        <p:spPr>
          <a:xfrm>
            <a:off x="861840" y="315756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охождение контроля платежных документ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ашивка 23"/>
          <p:cNvSpPr/>
          <p:nvPr/>
        </p:nvSpPr>
        <p:spPr>
          <a:xfrm>
            <a:off x="468360" y="4003560"/>
            <a:ext cx="144360" cy="217440"/>
          </a:xfrm>
          <a:custGeom>
            <a:avLst/>
            <a:gdLst>
              <a:gd name="textAreaLeft" fmla="*/ 0 w 144360"/>
              <a:gd name="textAreaRight" fmla="*/ 144360 w 14436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Прямоугольник 1"/>
          <p:cNvSpPr/>
          <p:nvPr/>
        </p:nvSpPr>
        <p:spPr>
          <a:xfrm>
            <a:off x="812880" y="2071800"/>
            <a:ext cx="766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охождение финансового контроля по закупка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ашивка 25"/>
          <p:cNvSpPr/>
          <p:nvPr/>
        </p:nvSpPr>
        <p:spPr>
          <a:xfrm>
            <a:off x="496800" y="2205000"/>
            <a:ext cx="160560" cy="216000"/>
          </a:xfrm>
          <a:custGeom>
            <a:avLst/>
            <a:gdLst>
              <a:gd name="textAreaLeft" fmla="*/ 0 w 160560"/>
              <a:gd name="textAreaRight" fmla="*/ 160920 w 1605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20"/>
          <p:cNvSpPr/>
          <p:nvPr/>
        </p:nvSpPr>
        <p:spPr>
          <a:xfrm>
            <a:off x="900000" y="3789360"/>
            <a:ext cx="80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внутренних передвижек бюджетных ассигнован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20"/>
          <p:cNvSpPr/>
          <p:nvPr/>
        </p:nvSpPr>
        <p:spPr>
          <a:xfrm>
            <a:off x="7631280" y="476280"/>
            <a:ext cx="151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5"/>
          <p:cNvSpPr/>
          <p:nvPr/>
        </p:nvSpPr>
        <p:spPr>
          <a:xfrm>
            <a:off x="8244000" y="54936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9"/>
          <p:cNvSpPr/>
          <p:nvPr/>
        </p:nvSpPr>
        <p:spPr>
          <a:xfrm>
            <a:off x="534960" y="750960"/>
            <a:ext cx="792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иболее значимые мероприятия на 2020 го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18"/>
          <p:cNvSpPr/>
          <p:nvPr/>
        </p:nvSpPr>
        <p:spPr>
          <a:xfrm>
            <a:off x="853920" y="1359000"/>
            <a:ext cx="8012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проект бюджета на 2021 год  и  на плановый период  2022 и 2023 годов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ашивка 19"/>
          <p:cNvSpPr/>
          <p:nvPr/>
        </p:nvSpPr>
        <p:spPr>
          <a:xfrm>
            <a:off x="468360" y="1413000"/>
            <a:ext cx="144360" cy="217440"/>
          </a:xfrm>
          <a:custGeom>
            <a:avLst/>
            <a:gdLst>
              <a:gd name="textAreaLeft" fmla="*/ 0 w 144360"/>
              <a:gd name="textAreaRight" fmla="*/ 144360 w 14436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20"/>
          <p:cNvSpPr/>
          <p:nvPr/>
        </p:nvSpPr>
        <p:spPr>
          <a:xfrm>
            <a:off x="853920" y="2589120"/>
            <a:ext cx="8064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публичные слушания по проекту отчета об исполнении бюджета городского округа город Рыбинск за 2019 год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Нашивка 21"/>
          <p:cNvSpPr/>
          <p:nvPr/>
        </p:nvSpPr>
        <p:spPr>
          <a:xfrm>
            <a:off x="466560" y="2673360"/>
            <a:ext cx="160560" cy="216000"/>
          </a:xfrm>
          <a:custGeom>
            <a:avLst/>
            <a:gdLst>
              <a:gd name="textAreaLeft" fmla="*/ 0 w 160560"/>
              <a:gd name="textAreaRight" fmla="*/ 160920 w 1605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ашивка 22"/>
          <p:cNvSpPr/>
          <p:nvPr/>
        </p:nvSpPr>
        <p:spPr>
          <a:xfrm>
            <a:off x="512640" y="3219480"/>
            <a:ext cx="144720" cy="216000"/>
          </a:xfrm>
          <a:custGeom>
            <a:avLst/>
            <a:gdLst>
              <a:gd name="textAreaLeft" fmla="*/ 0 w 144720"/>
              <a:gd name="textAreaRight" fmla="*/ 145080 w 144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23"/>
          <p:cNvSpPr/>
          <p:nvPr/>
        </p:nvSpPr>
        <p:spPr>
          <a:xfrm>
            <a:off x="922320" y="3076560"/>
            <a:ext cx="7993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публичные слушания по проекту Решения Муниципального Совета городского округа город Рыбинск «О бюджете городского округа город Рыбинск  на  2021 год  и  на плановый период  2022 и 2023 годов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Прямоугольник 3"/>
          <p:cNvSpPr/>
          <p:nvPr/>
        </p:nvSpPr>
        <p:spPr>
          <a:xfrm>
            <a:off x="831960" y="3825720"/>
            <a:ext cx="7880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дальнейшую работу по замещению коммерческих кредитов на бюджетные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ашивка 24"/>
          <p:cNvSpPr/>
          <p:nvPr/>
        </p:nvSpPr>
        <p:spPr>
          <a:xfrm>
            <a:off x="477720" y="3772080"/>
            <a:ext cx="144720" cy="217440"/>
          </a:xfrm>
          <a:custGeom>
            <a:avLst/>
            <a:gdLst>
              <a:gd name="textAreaLeft" fmla="*/ 0 w 144720"/>
              <a:gd name="textAreaRight" fmla="*/ 145080 w 14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Прямоугольник 3"/>
          <p:cNvSpPr/>
          <p:nvPr/>
        </p:nvSpPr>
        <p:spPr>
          <a:xfrm>
            <a:off x="819000" y="5516640"/>
            <a:ext cx="7585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майских указов Президента, увеличение МРОТ с 01.01.2020 г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ашивка 27"/>
          <p:cNvSpPr/>
          <p:nvPr/>
        </p:nvSpPr>
        <p:spPr>
          <a:xfrm>
            <a:off x="477720" y="5589720"/>
            <a:ext cx="115920" cy="217440"/>
          </a:xfrm>
          <a:custGeom>
            <a:avLst/>
            <a:gdLst>
              <a:gd name="textAreaLeft" fmla="*/ 0 w 115920"/>
              <a:gd name="textAreaRight" fmla="*/ 116280 w 1159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Прямоугольник 3"/>
          <p:cNvSpPr/>
          <p:nvPr/>
        </p:nvSpPr>
        <p:spPr>
          <a:xfrm>
            <a:off x="874800" y="5950080"/>
            <a:ext cx="7584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ь работу по получению иной дотаци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ашивка 29"/>
          <p:cNvSpPr/>
          <p:nvPr/>
        </p:nvSpPr>
        <p:spPr>
          <a:xfrm>
            <a:off x="482760" y="6021360"/>
            <a:ext cx="144360" cy="217440"/>
          </a:xfrm>
          <a:custGeom>
            <a:avLst/>
            <a:gdLst>
              <a:gd name="textAreaLeft" fmla="*/ 0 w 144360"/>
              <a:gd name="textAreaRight" fmla="*/ 144360 w 14436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ашивка 23"/>
          <p:cNvSpPr/>
          <p:nvPr/>
        </p:nvSpPr>
        <p:spPr>
          <a:xfrm>
            <a:off x="468360" y="4363920"/>
            <a:ext cx="144360" cy="217440"/>
          </a:xfrm>
          <a:custGeom>
            <a:avLst/>
            <a:gdLst>
              <a:gd name="textAreaLeft" fmla="*/ 0 w 144360"/>
              <a:gd name="textAreaRight" fmla="*/ 144360 w 14436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Прямоугольник 1"/>
          <p:cNvSpPr/>
          <p:nvPr/>
        </p:nvSpPr>
        <p:spPr>
          <a:xfrm>
            <a:off x="833400" y="4199040"/>
            <a:ext cx="76644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овать комплекс  следующих мер: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организация процесса формирования и ведения реестра источников доходов бюджета города в  подсистеме «Реестр источников доходов»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ация работы  по выявлению потенциальных доходных источников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задолженностью по имущественным налогам муниципальных служащих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ашивка 20"/>
          <p:cNvSpPr/>
          <p:nvPr/>
        </p:nvSpPr>
        <p:spPr>
          <a:xfrm>
            <a:off x="466560" y="1766880"/>
            <a:ext cx="160560" cy="216000"/>
          </a:xfrm>
          <a:custGeom>
            <a:avLst/>
            <a:gdLst>
              <a:gd name="textAreaLeft" fmla="*/ 0 w 160560"/>
              <a:gd name="textAreaRight" fmla="*/ 160920 w 1605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Box 20"/>
          <p:cNvSpPr/>
          <p:nvPr/>
        </p:nvSpPr>
        <p:spPr>
          <a:xfrm>
            <a:off x="853920" y="1690560"/>
            <a:ext cx="8064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бюджетный прогноз на долгосрочный период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ашивка 25"/>
          <p:cNvSpPr/>
          <p:nvPr/>
        </p:nvSpPr>
        <p:spPr>
          <a:xfrm>
            <a:off x="496800" y="2133720"/>
            <a:ext cx="160560" cy="215640"/>
          </a:xfrm>
          <a:custGeom>
            <a:avLst/>
            <a:gdLst>
              <a:gd name="textAreaLeft" fmla="*/ 0 w 160560"/>
              <a:gd name="textAreaRight" fmla="*/ 160920 w 1605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Box 20"/>
          <p:cNvSpPr/>
          <p:nvPr/>
        </p:nvSpPr>
        <p:spPr>
          <a:xfrm>
            <a:off x="853920" y="1992240"/>
            <a:ext cx="806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я и предоставления информации на едином портале бюджетной системы Российской Федерации система – «Электронный бюджет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5T11:20:01Z</dcterms:created>
  <dc:creator>Надежда Н. Петухова</dc:creator>
  <dc:description/>
  <dc:language>en-US</dc:language>
  <cp:lastModifiedBy>Анна Г. Богомолова</cp:lastModifiedBy>
  <cp:lastPrinted>2018-12-20T10:21:39Z</cp:lastPrinted>
  <dcterms:modified xsi:type="dcterms:W3CDTF">2019-12-20T11:01:22Z</dcterms:modified>
  <cp:revision>118</cp:revision>
  <dc:subject/>
  <dc:title>Презентация PowerPoint</dc:title>
</cp:coreProperties>
</file>