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3E97-5AA9-468B-B223-816C4E562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F456-A314-4E4D-B8E9-B207E0E1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12290-4704-4BE5-898F-567F917B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43B26-BF75-4F9A-AAC8-0FA11E81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0D92D-1681-4F20-94FD-091B5317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923B8-BFD5-4D24-9160-2990BE92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52A2D-397A-489C-9D6F-E2AD4C76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49548-F643-43E2-AEA3-2D05F824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A94D9-AA63-4899-8522-2F22ECB2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DC2A1-4157-4752-AD09-36BA1DFC2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95494-196C-446B-A249-C7626876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E76D-FC42-4128-95E7-5E5A7B05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F6C6-6C35-4390-9AA5-04E227516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D44E-E8FB-4EAE-BD72-A0B11270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6F07-E60E-4D10-9F0E-ECBA7A8C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8AD9-20A0-4681-9BA6-3569BD2C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4554-51A2-406C-8962-7569E965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4A4A-63B5-40E4-A4F6-274D0854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9F77-85A2-41A8-9E0D-15368B72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E39D-7588-4338-90E7-D7BB2D41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11F8-4A90-4119-A5B1-E2C14857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657B-57F8-4315-B841-CCF7D388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C9CB-4461-489A-8A94-D1C73A8D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DBD4-7AC1-4ABC-BD76-95A49D16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2ACA-8671-4050-B291-DA9CFB9B1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2772-79F0-4487-9E6A-566E05BE6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41026-6115-440D-A6AD-553FCC7E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10C57-EC3D-4F5D-A379-989D7AEF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5418B-7887-4582-A67C-28D32362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5A659-51D9-44DC-8011-2B29CEC1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770AA-599E-44E5-BD7B-A46F453B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21B4-B808-4D05-BD9D-7409A39E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5A0A7-CEA4-4729-BBAE-49D3AF4A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F9E72-1B85-43DB-A062-703A4718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6D5DF-7250-4623-AEC2-7820A317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5FDFD-AA3F-4A8A-84B4-683A6C93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6CB61-545A-4F9F-83C5-3898997B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D7937-24A9-40E6-B2A8-41CF079A5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EEF0C-DF02-462F-BE73-E937C49F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42906-442C-45CB-AD81-C263DECAC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7FE99-CB77-44CA-85D1-467D949D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A809E-F71E-40BF-839F-B50B2076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3C1B-7D69-447C-8C97-FCBCEB8D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FDCB5-87EC-4124-9289-28024D07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D3A63-EDFD-4375-8A9A-8F6EAD71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DE6E8-2A4C-49CE-888D-AE4E94CF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04D4D-8BF2-402B-80E1-912786AD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0EAC8-F096-474B-ADEB-93A4507B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FBD1D-A99C-4645-B774-3C547CF4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EB814-63CB-484C-81DF-4AE38DA8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7503F-90EF-4379-AD00-8B10923F7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07F95-69F6-46D2-8EDF-13DBDF174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2326D-6D2B-4B27-ADE6-FFE14D6F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CFB4-2C3D-4A18-9873-E47C95C9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2892B-F220-4D86-9B0D-9173B125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5600C-60B7-4334-BFEB-38135FFC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54737-D2EB-408C-A1BA-3D834545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8E189-52D3-4FE3-8A73-F8539546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0550D-518D-4380-8148-7D6C9C79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9E84F-2C9F-4707-A5FB-66874CD6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E3E04-BD30-495F-832E-F447B863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AFDE7-37CA-4A07-9C62-685A6322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51AF7-C170-4544-B225-13057AC6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03660-1943-416F-98AD-F324E61C8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6274-C980-4BF0-985C-5D013128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94139-44D4-4F52-8228-2CD0EACC4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FAAF2-82EC-4B61-9FA0-87A0CE66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8C38C-0878-4F17-942A-39E82E29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8905E-C531-448F-8C17-5D0479E5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22D75-2C32-48B0-9AE4-C5340203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979E9-BE98-4F53-AFF6-92832F64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04940-3094-44C0-8B42-8E79F771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428E9-71EB-41BE-AC02-015FAD98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65A4A-7B05-4FC1-AF5D-CD7724FC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58945-8389-4CCA-AD5B-83D0C593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7705-2444-4999-90A4-042D2E5C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E1F28-C60C-43A8-B375-275265A8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F9F34-B281-48F0-83FB-B919963D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C2A67-778F-4893-8ADF-86F8FACE2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EC462-832B-4BB9-9388-1D98DF7E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9B658-B3DD-414C-9E06-9E38CBE3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9F427-8564-4156-BE1F-B4B5BBF9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E8C26-BAEB-4BF0-80E8-0D36ED7E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49433-1267-4DC4-A6CC-6CAED4A8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F67ED-A12D-44C3-969E-0B88F9A8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B1AB3-96C0-4FB7-8F16-83ADFBE0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B1F2-EFA1-4C42-8DB7-31E18E6A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648F5-0737-4C75-93A1-6BA227C4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B77E7-9CE1-4DB4-AC55-0C632971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24EE4-BBC8-4B36-858F-E954BAEE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72AF5-0079-4C55-9858-F9193B647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12E62-2DC6-48E8-85B3-59A000324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B5112-9C1C-4580-974D-3BF58719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3726D-1C28-4EDE-9F35-F0E32D82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9C666-8A27-4FCE-9B42-A600B774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136EC-1027-4FE6-8E31-7CCD629D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33C72-3FBB-450B-97F1-37A7F2BB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67B9-D9C0-4DB3-9812-1D35DB6D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ACF24-7E0B-43F9-AC16-E0E99082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6205D-49E4-46AC-8050-F6C79A36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98DC1-B6F2-41CF-8994-81055B87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54742-B147-47A9-AA1F-98CBF0F9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27AA1-7DA5-4083-A940-5BCB714A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4BD08-46E7-4EA9-9EA0-EAE02AE88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8C3F6-2A67-438C-8D64-6A22C874E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833A4-DE3F-4B57-9BD1-77095126F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6FE1C-AA01-42D9-BD5E-A61AF0C6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8D46B-4837-4E86-B9F2-78DBBF91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053A-8FB3-49F5-9447-C362DAF52B4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9D54-3BD4-4291-BCC8-F7BCAEE9EC05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EA30-5524-46B0-A287-4FF0591E83C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017F-0BCF-49A9-81C6-272516A41260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FBCA-91B2-4A7D-9DA3-052876F50AD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F3FE-864F-4AB6-852D-F7CFCD93352A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2F83-7154-4539-A57E-CB8C1C91EFC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78F1-2D48-4C39-8F2E-044969816F3A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C653-8F2C-460B-9083-EFA4009B273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6574-89B7-4622-8598-B30D95E8FCF4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BD03-F5D6-498C-935F-4498D9D87BD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C1FE-CDDC-40DE-976F-7963B6B08654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969E-3FD0-4CBE-A48E-AD4207186FD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D5C5-F9CC-4DA8-A35A-534A290809C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2B5C-234A-4EF9-86DF-472E41F55E59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F20B-7A0D-4D72-B889-23A4398ECD4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20"/>
          <p:cNvSpPr/>
          <p:nvPr/>
        </p:nvSpPr>
        <p:spPr>
          <a:xfrm>
            <a:off x="7631280" y="476280"/>
            <a:ext cx="151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5"/>
          <p:cNvSpPr/>
          <p:nvPr/>
        </p:nvSpPr>
        <p:spPr>
          <a:xfrm>
            <a:off x="8244000" y="549360"/>
            <a:ext cx="9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Прямоугольник 4"/>
          <p:cNvSpPr/>
          <p:nvPr/>
        </p:nvSpPr>
        <p:spPr>
          <a:xfrm>
            <a:off x="539640" y="1849680"/>
            <a:ext cx="84250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артамент финансов осуществляет операционно-кассовое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 150 учрежд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Прямоугольник 8"/>
          <p:cNvSpPr/>
          <p:nvPr/>
        </p:nvSpPr>
        <p:spPr>
          <a:xfrm>
            <a:off x="539640" y="2998800"/>
            <a:ext cx="24480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- органы местного самоуправ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Прямоугольник 10"/>
          <p:cNvSpPr/>
          <p:nvPr/>
        </p:nvSpPr>
        <p:spPr>
          <a:xfrm>
            <a:off x="3132000" y="2998800"/>
            <a:ext cx="1584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 казен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режд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Прямоугольник 11"/>
          <p:cNvSpPr/>
          <p:nvPr/>
        </p:nvSpPr>
        <p:spPr>
          <a:xfrm>
            <a:off x="4932360" y="2998800"/>
            <a:ext cx="1800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- бюджетные учрежд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Прямоугольник 12"/>
          <p:cNvSpPr/>
          <p:nvPr/>
        </p:nvSpPr>
        <p:spPr>
          <a:xfrm>
            <a:off x="6948360" y="2998800"/>
            <a:ext cx="2016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- автономные учрежд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76" name="Прямая со стрелкой 7"/>
          <p:cNvCxnSpPr/>
          <p:nvPr/>
        </p:nvCxnSpPr>
        <p:spPr>
          <a:xfrm>
            <a:off x="1692000" y="2637000"/>
            <a:ext cx="1080" cy="2880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7" name="Прямая со стрелкой 15"/>
          <p:cNvCxnSpPr/>
          <p:nvPr/>
        </p:nvCxnSpPr>
        <p:spPr>
          <a:xfrm>
            <a:off x="3850920" y="2637000"/>
            <a:ext cx="1080" cy="2880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8" name="Прямая со стрелкой 16"/>
          <p:cNvCxnSpPr/>
          <p:nvPr/>
        </p:nvCxnSpPr>
        <p:spPr>
          <a:xfrm>
            <a:off x="5795640" y="2637000"/>
            <a:ext cx="1080" cy="2880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9" name="Прямая со стрелкой 17"/>
          <p:cNvCxnSpPr/>
          <p:nvPr/>
        </p:nvCxnSpPr>
        <p:spPr>
          <a:xfrm>
            <a:off x="7956360" y="2637000"/>
            <a:ext cx="1080" cy="2880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80" name="TextBox 9"/>
          <p:cNvSpPr/>
          <p:nvPr/>
        </p:nvSpPr>
        <p:spPr>
          <a:xfrm>
            <a:off x="611280" y="907920"/>
            <a:ext cx="792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и работы Департамента финансов за 2016 го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539640" y="4068720"/>
            <a:ext cx="84250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о 297 лицевых счетов, по которым отражаются  операци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редствами получателей бюджетных средст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ми во временном распоряжени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ми бюджетных и автономных учрежден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выми средствами, выделенным бюджетным и автономным учреждения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ашивка 20"/>
          <p:cNvSpPr/>
          <p:nvPr/>
        </p:nvSpPr>
        <p:spPr>
          <a:xfrm>
            <a:off x="395280" y="4581360"/>
            <a:ext cx="144360" cy="142920"/>
          </a:xfrm>
          <a:custGeom>
            <a:avLst/>
            <a:gdLst>
              <a:gd name="textAreaLeft" fmla="*/ 0 w 144360"/>
              <a:gd name="textAreaRight" fmla="*/ 144360 w 1443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919" y="0"/>
                </a:lnTo>
                <a:lnTo>
                  <a:pt x="21600" y="10800"/>
                </a:lnTo>
                <a:lnTo>
                  <a:pt x="10919" y="21600"/>
                </a:lnTo>
                <a:lnTo>
                  <a:pt x="0" y="21600"/>
                </a:lnTo>
                <a:lnTo>
                  <a:pt x="10681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ашивка 24"/>
          <p:cNvSpPr/>
          <p:nvPr/>
        </p:nvSpPr>
        <p:spPr>
          <a:xfrm>
            <a:off x="395280" y="4869000"/>
            <a:ext cx="144360" cy="14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Нашивка 25"/>
          <p:cNvSpPr/>
          <p:nvPr/>
        </p:nvSpPr>
        <p:spPr>
          <a:xfrm>
            <a:off x="395280" y="5157720"/>
            <a:ext cx="144360" cy="142920"/>
          </a:xfrm>
          <a:custGeom>
            <a:avLst/>
            <a:gdLst>
              <a:gd name="textAreaLeft" fmla="*/ 0 w 144360"/>
              <a:gd name="textAreaRight" fmla="*/ 144360 w 1443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919" y="0"/>
                </a:lnTo>
                <a:lnTo>
                  <a:pt x="21600" y="10800"/>
                </a:lnTo>
                <a:lnTo>
                  <a:pt x="10919" y="21600"/>
                </a:lnTo>
                <a:lnTo>
                  <a:pt x="0" y="21600"/>
                </a:lnTo>
                <a:lnTo>
                  <a:pt x="10681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Нашивка 26"/>
          <p:cNvSpPr/>
          <p:nvPr/>
        </p:nvSpPr>
        <p:spPr>
          <a:xfrm>
            <a:off x="395280" y="5445000"/>
            <a:ext cx="144360" cy="144720"/>
          </a:xfrm>
          <a:custGeom>
            <a:avLst/>
            <a:gdLst>
              <a:gd name="textAreaLeft" fmla="*/ 0 w 144360"/>
              <a:gd name="textAreaRight" fmla="*/ 144360 w 14436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20"/>
          <p:cNvSpPr/>
          <p:nvPr/>
        </p:nvSpPr>
        <p:spPr>
          <a:xfrm>
            <a:off x="7631280" y="476280"/>
            <a:ext cx="151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Box 5"/>
          <p:cNvSpPr/>
          <p:nvPr/>
        </p:nvSpPr>
        <p:spPr>
          <a:xfrm>
            <a:off x="8244000" y="549360"/>
            <a:ext cx="9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Box 9"/>
          <p:cNvSpPr/>
          <p:nvPr/>
        </p:nvSpPr>
        <p:spPr>
          <a:xfrm>
            <a:off x="611280" y="692280"/>
            <a:ext cx="79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значимые мероприятия в деятельност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артамента в 2016 го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13"/>
          <p:cNvSpPr/>
          <p:nvPr/>
        </p:nvSpPr>
        <p:spPr>
          <a:xfrm>
            <a:off x="755640" y="1806480"/>
            <a:ext cx="52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года проводилось 9 уточнений бюдже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Нашивка 1"/>
          <p:cNvSpPr/>
          <p:nvPr/>
        </p:nvSpPr>
        <p:spPr>
          <a:xfrm>
            <a:off x="539640" y="1878120"/>
            <a:ext cx="144720" cy="215640"/>
          </a:xfrm>
          <a:custGeom>
            <a:avLst/>
            <a:gdLst>
              <a:gd name="textAreaLeft" fmla="*/ 0 w 144720"/>
              <a:gd name="textAreaRight" fmla="*/ 145080 w 1447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Box 18"/>
          <p:cNvSpPr/>
          <p:nvPr/>
        </p:nvSpPr>
        <p:spPr>
          <a:xfrm>
            <a:off x="755640" y="2238480"/>
            <a:ext cx="813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рте месяце прошли публичные слушания по проекту отчета об исполнении бюджета городского округа город Рыбинск за 2015 го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ашивка 19"/>
          <p:cNvSpPr/>
          <p:nvPr/>
        </p:nvSpPr>
        <p:spPr>
          <a:xfrm>
            <a:off x="539640" y="2381400"/>
            <a:ext cx="144720" cy="217440"/>
          </a:xfrm>
          <a:custGeom>
            <a:avLst/>
            <a:gdLst>
              <a:gd name="textAreaLeft" fmla="*/ 0 w 144720"/>
              <a:gd name="textAreaRight" fmla="*/ 145080 w 1447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20"/>
          <p:cNvSpPr/>
          <p:nvPr/>
        </p:nvSpPr>
        <p:spPr>
          <a:xfrm>
            <a:off x="755640" y="2846520"/>
            <a:ext cx="820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оябре 2016 года состоялись публичные слушания по проекту Решения Муниципального Совета городского округа город Рыбинск «О бюджете городского округа город Рыбинск  на  2017 год  и  на плановый период  2018 и 2019 годов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ашивка 21"/>
          <p:cNvSpPr/>
          <p:nvPr/>
        </p:nvSpPr>
        <p:spPr>
          <a:xfrm>
            <a:off x="539640" y="2997360"/>
            <a:ext cx="144720" cy="215640"/>
          </a:xfrm>
          <a:custGeom>
            <a:avLst/>
            <a:gdLst>
              <a:gd name="textAreaLeft" fmla="*/ 0 w 144720"/>
              <a:gd name="textAreaRight" fmla="*/ 145080 w 1447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ашивка 22"/>
          <p:cNvSpPr/>
          <p:nvPr/>
        </p:nvSpPr>
        <p:spPr>
          <a:xfrm>
            <a:off x="539640" y="3789360"/>
            <a:ext cx="144720" cy="216000"/>
          </a:xfrm>
          <a:custGeom>
            <a:avLst/>
            <a:gdLst>
              <a:gd name="textAreaLeft" fmla="*/ 0 w 144720"/>
              <a:gd name="textAreaRight" fmla="*/ 145080 w 144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23"/>
          <p:cNvSpPr/>
          <p:nvPr/>
        </p:nvSpPr>
        <p:spPr>
          <a:xfrm>
            <a:off x="755640" y="3668760"/>
            <a:ext cx="799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абре месяце  Муниципальным Советом принят бюджет. Решение Муниципального Совета городского округа город Рыбинск от 08.12.2016 №206 «О бюджете городского округа город Рыбинск  на  2017 год  и  на плановый период  2018 и 2019 годов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Прямоугольник 3"/>
          <p:cNvSpPr/>
          <p:nvPr/>
        </p:nvSpPr>
        <p:spPr>
          <a:xfrm>
            <a:off x="755640" y="4614840"/>
            <a:ext cx="813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16 году город получил бюджетные кредиты в июне  150 млн. руб., и в ноябре 50 млн. руб. которые направил на погашение коммерческих кредитов в размере 100 млн. руб., и на 100 млн. руб. сократилась просроченная кредиторская задолженност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Нашивка 24"/>
          <p:cNvSpPr/>
          <p:nvPr/>
        </p:nvSpPr>
        <p:spPr>
          <a:xfrm>
            <a:off x="539640" y="4724280"/>
            <a:ext cx="144720" cy="217440"/>
          </a:xfrm>
          <a:custGeom>
            <a:avLst/>
            <a:gdLst>
              <a:gd name="textAreaLeft" fmla="*/ 0 w 144720"/>
              <a:gd name="textAreaRight" fmla="*/ 145080 w 1447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20"/>
          <p:cNvSpPr/>
          <p:nvPr/>
        </p:nvSpPr>
        <p:spPr>
          <a:xfrm>
            <a:off x="7631280" y="476280"/>
            <a:ext cx="151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Box 5"/>
          <p:cNvSpPr/>
          <p:nvPr/>
        </p:nvSpPr>
        <p:spPr>
          <a:xfrm>
            <a:off x="8244000" y="549360"/>
            <a:ext cx="9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9"/>
          <p:cNvSpPr/>
          <p:nvPr/>
        </p:nvSpPr>
        <p:spPr>
          <a:xfrm>
            <a:off x="611280" y="692280"/>
            <a:ext cx="79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я расходов по обслуживани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го долг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13"/>
          <p:cNvSpPr/>
          <p:nvPr/>
        </p:nvSpPr>
        <p:spPr>
          <a:xfrm>
            <a:off x="539640" y="1793880"/>
            <a:ext cx="842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асти замены коммерческих кредитов бюджетными составила 3 978 тыс. руб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ашивка 1"/>
          <p:cNvSpPr/>
          <p:nvPr/>
        </p:nvSpPr>
        <p:spPr>
          <a:xfrm>
            <a:off x="324000" y="1844640"/>
            <a:ext cx="144360" cy="216000"/>
          </a:xfrm>
          <a:custGeom>
            <a:avLst/>
            <a:gdLst>
              <a:gd name="textAreaLeft" fmla="*/ 0 w 144360"/>
              <a:gd name="textAreaRight" fmla="*/ 144360 w 144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18"/>
          <p:cNvSpPr/>
          <p:nvPr/>
        </p:nvSpPr>
        <p:spPr>
          <a:xfrm>
            <a:off x="539640" y="2340000"/>
            <a:ext cx="835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года проводилась работа по замене существующих коммерческих кредитов с более высокой процентной ставкой на более низкую, экономия составила 1 млн.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Нашивка 19"/>
          <p:cNvSpPr/>
          <p:nvPr/>
        </p:nvSpPr>
        <p:spPr>
          <a:xfrm>
            <a:off x="324000" y="2492280"/>
            <a:ext cx="144360" cy="216000"/>
          </a:xfrm>
          <a:custGeom>
            <a:avLst/>
            <a:gdLst>
              <a:gd name="textAreaLeft" fmla="*/ 0 w 144360"/>
              <a:gd name="textAreaRight" fmla="*/ 144360 w 144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ашивка 21"/>
          <p:cNvSpPr/>
          <p:nvPr/>
        </p:nvSpPr>
        <p:spPr>
          <a:xfrm>
            <a:off x="324000" y="3357720"/>
            <a:ext cx="144360" cy="215640"/>
          </a:xfrm>
          <a:custGeom>
            <a:avLst/>
            <a:gdLst>
              <a:gd name="textAreaLeft" fmla="*/ 0 w 144360"/>
              <a:gd name="textAreaRight" fmla="*/ 144360 w 144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Box 26"/>
          <p:cNvSpPr/>
          <p:nvPr/>
        </p:nvSpPr>
        <p:spPr>
          <a:xfrm>
            <a:off x="539640" y="3173400"/>
            <a:ext cx="849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года высвобожденные ассигнования, которые были необходимы для проведения закупок, направлялись на погашение исполнительных листов (в течение  года  бюджетные ассигнования уменьшились 44 млн. руб.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Box 13"/>
          <p:cNvSpPr/>
          <p:nvPr/>
        </p:nvSpPr>
        <p:spPr>
          <a:xfrm>
            <a:off x="689040" y="41497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   49 млн. руб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250920" y="1413000"/>
          <a:ext cx="8683560" cy="4451400"/>
        </p:xfrm>
        <a:graphic>
          <a:graphicData uri="http://schemas.openxmlformats.org/drawingml/2006/table">
            <a:tbl>
              <a:tblPr/>
              <a:tblGrid>
                <a:gridCol w="3097080"/>
                <a:gridCol w="1008000"/>
                <a:gridCol w="1079640"/>
                <a:gridCol w="936720"/>
                <a:gridCol w="863640"/>
                <a:gridCol w="865080"/>
                <a:gridCol w="833400"/>
              </a:tblGrid>
              <a:tr h="90468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16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даемое исполнение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испол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 2017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 2018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 2019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90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52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1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0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36000" rIns="36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3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420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и не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83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3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67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2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7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789,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3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6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3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ВС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243,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56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15,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5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8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689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за счет местного бюдж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32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91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за счет областного бюдж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91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65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3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ФИЦИТ ИЛИ ПРЕВЫШЕ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ОВ НАД РАСХОД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4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</a:tbl>
          </a:graphicData>
        </a:graphic>
      </p:graphicFrame>
      <p:sp>
        <p:nvSpPr>
          <p:cNvPr id="410" name="Text Box 120"/>
          <p:cNvSpPr/>
          <p:nvPr/>
        </p:nvSpPr>
        <p:spPr>
          <a:xfrm>
            <a:off x="7631280" y="476280"/>
            <a:ext cx="151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Box 1"/>
          <p:cNvSpPr/>
          <p:nvPr/>
        </p:nvSpPr>
        <p:spPr>
          <a:xfrm>
            <a:off x="0" y="54936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жидаемое исполнение бюджета городского округа город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ыбинск за 2016 год по состоянию на 26.12.2016 (млн. руб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Box 5"/>
          <p:cNvSpPr/>
          <p:nvPr/>
        </p:nvSpPr>
        <p:spPr>
          <a:xfrm>
            <a:off x="8244000" y="549360"/>
            <a:ext cx="9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5T11:20:01Z</dcterms:created>
  <dc:creator>Надежда Н. Петухова</dc:creator>
  <dc:description/>
  <dc:language>en-US</dc:language>
  <cp:lastModifiedBy>Вадим Г. Мирзабеков</cp:lastModifiedBy>
  <dcterms:modified xsi:type="dcterms:W3CDTF">2016-12-28T13:22:56Z</dcterms:modified>
  <cp:revision>37</cp:revision>
  <dc:subject/>
  <dc:title>Презентация PowerPoint</dc:title>
</cp:coreProperties>
</file>